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205b5a"/>
              </a:solidFill>
              <a:latin typeface="Baskervil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205b5a"/>
              </a:solidFill>
              <a:latin typeface="Baskervil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205b5a"/>
              </a:solidFill>
              <a:latin typeface="Baskervil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205b5a"/>
              </a:solidFill>
              <a:latin typeface="Baskervill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205b5a"/>
              </a:solidFill>
              <a:latin typeface="Baskervil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205b5a"/>
              </a:solidFill>
              <a:latin typeface="Baskervill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205b5a"/>
              </a:solidFill>
              <a:latin typeface="Baskervill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205b5a"/>
              </a:solidFill>
              <a:latin typeface="Baskervil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205b5a"/>
              </a:solidFill>
              <a:latin typeface="Baskervil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205b5a"/>
              </a:solidFill>
              <a:latin typeface="Baskervil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205b5a"/>
              </a:solidFill>
              <a:latin typeface="Baskervil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205b5a"/>
              </a:solidFill>
              <a:latin typeface="Baskervil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205b5a"/>
              </a:solidFill>
              <a:latin typeface="Baskervil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205b5a"/>
              </a:solidFill>
              <a:latin typeface="Baskervill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205b5a"/>
              </a:solidFill>
              <a:latin typeface="Baskervil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205b5a"/>
              </a:solidFill>
              <a:latin typeface="Baskervill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205b5a"/>
              </a:solidFill>
              <a:latin typeface="Baskervil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205b5a"/>
              </a:solidFill>
              <a:latin typeface="Baskervil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205b5a"/>
              </a:solidFill>
              <a:latin typeface="Baskervill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205b5a"/>
              </a:solidFill>
              <a:latin typeface="Baskervill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205b5a"/>
              </a:solidFill>
              <a:latin typeface="Baskervil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205b5a"/>
              </a:solidFill>
              <a:latin typeface="Baskervill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205b5a"/>
              </a:solidFill>
              <a:latin typeface="Baskervil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205b5a"/>
              </a:solidFill>
              <a:latin typeface="Baskervil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205b5a"/>
              </a:solidFill>
              <a:latin typeface="Baskervill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205b5a"/>
              </a:solidFill>
              <a:latin typeface="Baskervill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205b5a"/>
              </a:solidFill>
              <a:latin typeface="Baskervil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205b5a"/>
              </a:solidFill>
              <a:latin typeface="Baskervill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205b5a"/>
              </a:solidFill>
              <a:latin typeface="Baskervil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205b5a"/>
              </a:solidFill>
              <a:latin typeface="Baskerville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205b5a"/>
              </a:solidFill>
              <a:latin typeface="Baskervil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205b5a"/>
              </a:solidFill>
              <a:latin typeface="Baskervil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205b5a"/>
              </a:solidFill>
              <a:latin typeface="Baskervill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205b5a"/>
              </a:solidFill>
              <a:latin typeface="Baskervill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205b5a"/>
              </a:solidFill>
              <a:latin typeface="Baskervil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205b5a"/>
              </a:solidFill>
              <a:latin typeface="Baskervil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205b5a"/>
              </a:solidFill>
              <a:latin typeface="Baskervill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205b5a"/>
              </a:solidFill>
              <a:latin typeface="Baskervil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205b5a"/>
              </a:solidFill>
              <a:latin typeface="Baskervill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205b5a"/>
              </a:solidFill>
              <a:latin typeface="Baskervil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87320" y="7188120"/>
            <a:ext cx="11430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800" spc="-1" strike="noStrike">
                <a:solidFill>
                  <a:srgbClr val="205b5a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205b5a"/>
              </a:solidFill>
              <a:latin typeface="Baskervil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87320" y="8445600"/>
            <a:ext cx="1143000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1000"/>
          </a:bodyPr>
          <a:p>
            <a:pPr marL="37440" indent="0">
              <a:spcBef>
                <a:spcPts val="36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c4c4c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  <a:p>
            <a:pPr lvl="1" marL="37440" indent="-37440">
              <a:spcBef>
                <a:spcPts val="3600"/>
              </a:spcBef>
              <a:buClr>
                <a:srgbClr val="4c4c4c"/>
              </a:buClr>
              <a:buFont typeface="Hoefler Tex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c4c4c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  <a:p>
            <a:pPr lvl="2" marL="37440" indent="-37440">
              <a:spcBef>
                <a:spcPts val="3600"/>
              </a:spcBef>
              <a:buClr>
                <a:srgbClr val="4c4c4c"/>
              </a:buClr>
              <a:buFont typeface="Hoefler Tex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c4c4c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  <a:p>
            <a:pPr lvl="3" marL="37440" indent="-37440">
              <a:spcBef>
                <a:spcPts val="3600"/>
              </a:spcBef>
              <a:buClr>
                <a:srgbClr val="4c4c4c"/>
              </a:buClr>
              <a:buFont typeface="Hoefler Tex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c4c4c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  <a:p>
            <a:pPr lvl="4" marL="37440" indent="-37440">
              <a:spcBef>
                <a:spcPts val="3600"/>
              </a:spcBef>
              <a:buClr>
                <a:srgbClr val="4c4c4c"/>
              </a:buClr>
              <a:buFont typeface="Hoefler Tex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c4c4c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  <a:p>
            <a:pPr lvl="5" marL="37440" indent="-37440">
              <a:spcBef>
                <a:spcPts val="3600"/>
              </a:spcBef>
              <a:buClr>
                <a:srgbClr val="205b5a"/>
              </a:buClr>
              <a:buFont typeface="Hoefler Tex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c4c4c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  <a:p>
            <a:pPr lvl="6" marL="37440" indent="-37440">
              <a:spcBef>
                <a:spcPts val="3600"/>
              </a:spcBef>
              <a:buClr>
                <a:srgbClr val="205b5a"/>
              </a:buClr>
              <a:buFont typeface="Hoefler Tex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c4c4c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800" spc="-1" strike="noStrike">
                <a:solidFill>
                  <a:srgbClr val="205b5a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205b5a"/>
              </a:solidFill>
              <a:latin typeface="Baskervil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5000"/>
          </a:bodyPr>
          <a:p>
            <a:pPr marL="291600" indent="0">
              <a:spcBef>
                <a:spcPts val="36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c4c4c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  <a:p>
            <a:pPr lvl="1" marL="291600" indent="-291600">
              <a:spcBef>
                <a:spcPts val="3600"/>
              </a:spcBef>
              <a:buClr>
                <a:srgbClr val="4c4c4c"/>
              </a:buClr>
              <a:buFont typeface="Hoefler Tex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c4c4c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  <a:p>
            <a:pPr lvl="2" marL="291600" indent="-291600">
              <a:spcBef>
                <a:spcPts val="3600"/>
              </a:spcBef>
              <a:buClr>
                <a:srgbClr val="4c4c4c"/>
              </a:buClr>
              <a:buFont typeface="Hoefler Tex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c4c4c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  <a:p>
            <a:pPr lvl="3" marL="291600" indent="-291600">
              <a:spcBef>
                <a:spcPts val="3600"/>
              </a:spcBef>
              <a:buClr>
                <a:srgbClr val="4c4c4c"/>
              </a:buClr>
              <a:buFont typeface="Hoefler Tex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c4c4c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  <a:p>
            <a:pPr lvl="4" marL="291600" indent="-291600">
              <a:spcBef>
                <a:spcPts val="3600"/>
              </a:spcBef>
              <a:buClr>
                <a:srgbClr val="4c4c4c"/>
              </a:buClr>
              <a:buFont typeface="Hoefler Tex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c4c4c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  <a:p>
            <a:pPr lvl="5" marL="291600" indent="-291600">
              <a:spcBef>
                <a:spcPts val="3600"/>
              </a:spcBef>
              <a:buClr>
                <a:srgbClr val="205b5a"/>
              </a:buClr>
              <a:buFont typeface="Hoefler Tex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c4c4c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  <a:p>
            <a:pPr lvl="6" marL="291600" indent="-291600">
              <a:spcBef>
                <a:spcPts val="3600"/>
              </a:spcBef>
              <a:buClr>
                <a:srgbClr val="205b5a"/>
              </a:buClr>
              <a:buFont typeface="Hoefler Tex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c4c4c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87320" y="1510920"/>
            <a:ext cx="114300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800" spc="-1" strike="noStrike">
                <a:solidFill>
                  <a:srgbClr val="205b5a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205b5a"/>
              </a:solidFill>
              <a:latin typeface="Baskervil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87320" y="5308200"/>
            <a:ext cx="11430000" cy="18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8000"/>
          </a:bodyPr>
          <a:p>
            <a:pPr marL="95760" indent="0">
              <a:spcBef>
                <a:spcPts val="36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c4c4c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  <a:p>
            <a:pPr lvl="1" marL="95760" indent="-95760">
              <a:spcBef>
                <a:spcPts val="3600"/>
              </a:spcBef>
              <a:buClr>
                <a:srgbClr val="4c4c4c"/>
              </a:buClr>
              <a:buFont typeface="Hoefler Tex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c4c4c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  <a:p>
            <a:pPr lvl="2" marL="95760" indent="-95760">
              <a:spcBef>
                <a:spcPts val="3600"/>
              </a:spcBef>
              <a:buClr>
                <a:srgbClr val="4c4c4c"/>
              </a:buClr>
              <a:buFont typeface="Hoefler Tex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c4c4c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  <a:p>
            <a:pPr lvl="3" marL="95760" indent="-95760">
              <a:spcBef>
                <a:spcPts val="3600"/>
              </a:spcBef>
              <a:buClr>
                <a:srgbClr val="4c4c4c"/>
              </a:buClr>
              <a:buFont typeface="Hoefler Tex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c4c4c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  <a:p>
            <a:pPr lvl="4" marL="95760" indent="-95760">
              <a:spcBef>
                <a:spcPts val="3600"/>
              </a:spcBef>
              <a:buClr>
                <a:srgbClr val="4c4c4c"/>
              </a:buClr>
              <a:buFont typeface="Hoefler Tex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c4c4c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  <a:p>
            <a:pPr lvl="5" marL="95760" indent="-95760">
              <a:spcBef>
                <a:spcPts val="3600"/>
              </a:spcBef>
              <a:buClr>
                <a:srgbClr val="205b5a"/>
              </a:buClr>
              <a:buFont typeface="Hoefler Tex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c4c4c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  <a:p>
            <a:pPr lvl="6" marL="95760" indent="-95760">
              <a:spcBef>
                <a:spcPts val="3600"/>
              </a:spcBef>
              <a:buClr>
                <a:srgbClr val="205b5a"/>
              </a:buClr>
              <a:buFont typeface="Hoefler Tex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c4c4c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800" spc="-1" strike="noStrike">
                <a:solidFill>
                  <a:srgbClr val="205b5a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205b5a"/>
              </a:solidFill>
              <a:latin typeface="Baskervil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86960" y="2768400"/>
            <a:ext cx="52707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263880" indent="0">
              <a:spcBef>
                <a:spcPts val="36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c4c4c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  <a:p>
            <a:pPr lvl="1" marL="263880" indent="-263880">
              <a:spcBef>
                <a:spcPts val="3600"/>
              </a:spcBef>
              <a:buClr>
                <a:srgbClr val="4c4c4c"/>
              </a:buClr>
              <a:buFont typeface="Hoefler Tex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c4c4c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  <a:p>
            <a:pPr lvl="2" marL="263880" indent="-263880">
              <a:spcBef>
                <a:spcPts val="3600"/>
              </a:spcBef>
              <a:buClr>
                <a:srgbClr val="4c4c4c"/>
              </a:buClr>
              <a:buFont typeface="Hoefler Tex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c4c4c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  <a:p>
            <a:pPr lvl="3" marL="263880" indent="-263880">
              <a:spcBef>
                <a:spcPts val="3600"/>
              </a:spcBef>
              <a:buClr>
                <a:srgbClr val="4c4c4c"/>
              </a:buClr>
              <a:buFont typeface="Hoefler Tex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c4c4c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  <a:p>
            <a:pPr lvl="4" marL="263880" indent="-263880">
              <a:spcBef>
                <a:spcPts val="3600"/>
              </a:spcBef>
              <a:buClr>
                <a:srgbClr val="4c4c4c"/>
              </a:buClr>
              <a:buFont typeface="Hoefler Tex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c4c4c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  <a:p>
            <a:pPr lvl="5" marL="263880" indent="-263880">
              <a:spcBef>
                <a:spcPts val="3600"/>
              </a:spcBef>
              <a:buClr>
                <a:srgbClr val="205b5a"/>
              </a:buClr>
              <a:buFont typeface="Hoefler Tex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c4c4c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  <a:p>
            <a:pPr lvl="6" marL="263880" indent="-263880">
              <a:spcBef>
                <a:spcPts val="3600"/>
              </a:spcBef>
              <a:buClr>
                <a:srgbClr val="205b5a"/>
              </a:buClr>
              <a:buFont typeface="Hoefler Tex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c4c4c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1"/>
          <p:cNvGrpSpPr/>
          <p:nvPr/>
        </p:nvGrpSpPr>
        <p:grpSpPr>
          <a:xfrm>
            <a:off x="2438280" y="914400"/>
            <a:ext cx="8125560" cy="6093360"/>
            <a:chOff x="2438280" y="914400"/>
            <a:chExt cx="8125560" cy="6093360"/>
          </a:xfrm>
        </p:grpSpPr>
        <p:pic>
          <p:nvPicPr>
            <p:cNvPr id="153" name="Picture 2" descr="InsertedImage.jpg"/>
            <p:cNvPicPr/>
            <p:nvPr/>
          </p:nvPicPr>
          <p:blipFill>
            <a:blip r:embed="rId1"/>
            <a:srcRect l="107" t="0" r="107" b="0"/>
            <a:stretch/>
          </p:blipFill>
          <p:spPr>
            <a:xfrm>
              <a:off x="2653920" y="1081080"/>
              <a:ext cx="7705080" cy="570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3" descr=""/>
            <p:cNvPicPr/>
            <p:nvPr/>
          </p:nvPicPr>
          <p:blipFill>
            <a:blip r:embed="rId2"/>
            <a:stretch/>
          </p:blipFill>
          <p:spPr>
            <a:xfrm>
              <a:off x="2438280" y="914400"/>
              <a:ext cx="8125560" cy="609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87320" y="7188120"/>
            <a:ext cx="11430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800" spc="-1" strike="noStrike">
                <a:solidFill>
                  <a:srgbClr val="205b5a"/>
                </a:solidFill>
                <a:latin typeface="Baskerville"/>
              </a:rPr>
              <a:t>English</a:t>
            </a:r>
            <a:endParaRPr b="0" lang="en-US" sz="7800" spc="-1" strike="noStrike">
              <a:solidFill>
                <a:srgbClr val="205b5a"/>
              </a:solidFill>
              <a:latin typeface="Baskervill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87320" y="8445600"/>
            <a:ext cx="1143000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Hoefler Text"/>
              </a:rPr>
              <a:t>Sept. 30</a:t>
            </a: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87320" y="1510920"/>
            <a:ext cx="114300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800" spc="-1" strike="noStrike">
                <a:solidFill>
                  <a:srgbClr val="205b5a"/>
                </a:solidFill>
                <a:latin typeface="Baskerville"/>
              </a:rPr>
              <a:t>The Crucible</a:t>
            </a:r>
            <a:endParaRPr b="0" lang="en-US" sz="7800" spc="-1" strike="noStrike">
              <a:solidFill>
                <a:srgbClr val="205b5a"/>
              </a:solidFill>
              <a:latin typeface="Baskervill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87320" y="5308200"/>
            <a:ext cx="11430000" cy="18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5600" spc="-1" strike="noStrike">
                <a:solidFill>
                  <a:srgbClr val="4c4c4c"/>
                </a:solidFill>
                <a:latin typeface="Hoefler Text"/>
              </a:rPr>
              <a:t>Arthur Miller</a:t>
            </a:r>
            <a:endParaRPr b="0" lang="en-US" sz="56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800" spc="-1" strike="noStrike">
                <a:solidFill>
                  <a:srgbClr val="636154"/>
                </a:solidFill>
                <a:latin typeface="Baskerville"/>
              </a:rPr>
              <a:t>Inquiry Questions</a:t>
            </a:r>
            <a:endParaRPr b="0" lang="en-US" sz="7800" spc="-1" strike="noStrike">
              <a:solidFill>
                <a:srgbClr val="205b5a"/>
              </a:solidFill>
              <a:latin typeface="Baskervill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3600"/>
              </a:spcBef>
              <a:buSzPct val="100000"/>
              <a:buBlip>
                <a:blip r:embed="rId1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c4c4c"/>
                </a:solidFill>
                <a:latin typeface="Hoefler Text"/>
              </a:rPr>
              <a:t>What were the Salem Witch Trials?</a:t>
            </a: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  <a:p>
            <a:pPr marL="571680" indent="-571680">
              <a:spcBef>
                <a:spcPts val="3600"/>
              </a:spcBef>
              <a:buSzPct val="100000"/>
              <a:buBlip>
                <a:blip r:embed="rId2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c4c4c"/>
                </a:solidFill>
                <a:latin typeface="Hoefler Text"/>
              </a:rPr>
              <a:t>Could something like the Witch Trials happen again, or has it?</a:t>
            </a: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1"/>
          <p:cNvGrpSpPr/>
          <p:nvPr/>
        </p:nvGrpSpPr>
        <p:grpSpPr>
          <a:xfrm>
            <a:off x="7556400" y="2768760"/>
            <a:ext cx="4691880" cy="6247440"/>
            <a:chOff x="7556400" y="2768760"/>
            <a:chExt cx="4691880" cy="6247440"/>
          </a:xfrm>
        </p:grpSpPr>
        <p:pic>
          <p:nvPicPr>
            <p:cNvPr id="162" name="Picture 2" descr="InsertedImage.jpg"/>
            <p:cNvPicPr/>
            <p:nvPr/>
          </p:nvPicPr>
          <p:blipFill>
            <a:blip r:embed="rId1"/>
            <a:srcRect l="5112" t="0" r="5112" b="0"/>
            <a:stretch/>
          </p:blipFill>
          <p:spPr>
            <a:xfrm>
              <a:off x="7765920" y="2935440"/>
              <a:ext cx="4285800" cy="585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3" descr=""/>
            <p:cNvPicPr/>
            <p:nvPr/>
          </p:nvPicPr>
          <p:blipFill>
            <a:blip r:embed="rId2"/>
            <a:stretch/>
          </p:blipFill>
          <p:spPr>
            <a:xfrm>
              <a:off x="7556400" y="2768760"/>
              <a:ext cx="4691880" cy="6247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800" spc="-1" strike="noStrike">
                <a:solidFill>
                  <a:srgbClr val="636154"/>
                </a:solidFill>
                <a:latin typeface="Baskerville"/>
              </a:rPr>
              <a:t>McCarthyism</a:t>
            </a:r>
            <a:endParaRPr b="0" lang="en-US" sz="7800" spc="-1" strike="noStrike">
              <a:solidFill>
                <a:srgbClr val="205b5a"/>
              </a:solidFill>
              <a:latin typeface="Baskervil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53920" y="2295360"/>
            <a:ext cx="5470560" cy="672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4000"/>
          </a:bodyPr>
          <a:p>
            <a:pPr marL="479880" indent="-479880">
              <a:spcBef>
                <a:spcPts val="3600"/>
              </a:spcBef>
              <a:buSzPct val="100000"/>
              <a:buBlip>
                <a:blip r:embed="rId3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c4c4c"/>
                </a:solidFill>
                <a:latin typeface="Hoefler Text"/>
              </a:rPr>
              <a:t>Took place in the 1950's</a:t>
            </a: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  <a:p>
            <a:pPr marL="479880" indent="-479880">
              <a:spcBef>
                <a:spcPts val="3600"/>
              </a:spcBef>
              <a:buSzPct val="100000"/>
              <a:buBlip>
                <a:blip r:embed="rId4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c4c4c"/>
                </a:solidFill>
                <a:latin typeface="Hoefler Text"/>
              </a:rPr>
              <a:t>Encouraged people to turn on each other, and point fingers at "communists"</a:t>
            </a: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  <a:p>
            <a:pPr marL="479880" indent="-479880">
              <a:spcBef>
                <a:spcPts val="3600"/>
              </a:spcBef>
              <a:buSzPct val="100000"/>
              <a:buBlip>
                <a:blip r:embed="rId5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c4c4c"/>
                </a:solidFill>
                <a:latin typeface="Hoefler Text"/>
              </a:rPr>
              <a:t>Ruined careers</a:t>
            </a: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  <a:p>
            <a:pPr marL="479880" indent="-479880">
              <a:spcBef>
                <a:spcPts val="3600"/>
              </a:spcBef>
              <a:buSzPct val="100000"/>
              <a:buBlip>
                <a:blip r:embed="rId6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c4c4c"/>
                </a:solidFill>
                <a:latin typeface="Hoefler Text"/>
              </a:rPr>
              <a:t>Ruined friendships/relationships</a:t>
            </a: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  <a:p>
            <a:pPr marL="479880" indent="-479880">
              <a:spcBef>
                <a:spcPts val="3600"/>
              </a:spcBef>
              <a:buSzPct val="100000"/>
              <a:buBlip>
                <a:blip r:embed="rId7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c4c4c"/>
                </a:solidFill>
                <a:latin typeface="Hoefler Text"/>
              </a:rPr>
              <a:t>Arthur Miller wrote The Crucible as a response to this hysteria</a:t>
            </a: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800" spc="-1" strike="noStrike">
                <a:solidFill>
                  <a:srgbClr val="636154"/>
                </a:solidFill>
                <a:latin typeface="Baskerville"/>
              </a:rPr>
              <a:t>Literary Term Allegory</a:t>
            </a:r>
            <a:endParaRPr b="0" lang="en-US" sz="7800" spc="-1" strike="noStrike">
              <a:solidFill>
                <a:srgbClr val="205b5a"/>
              </a:solidFill>
              <a:latin typeface="Baskervill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3600"/>
              </a:spcBef>
              <a:buSzPct val="100000"/>
              <a:buBlip>
                <a:blip r:embed="rId1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c4c4c"/>
                </a:solidFill>
                <a:latin typeface="Hoefler Text"/>
              </a:rPr>
              <a:t>Allegory is a literary device in which characters or events in a literary, visual, or musical art form represent or symbolize ideas and concepts.</a:t>
            </a: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800" spc="-1" strike="noStrike">
                <a:solidFill>
                  <a:srgbClr val="636154"/>
                </a:solidFill>
                <a:latin typeface="Baskerville"/>
              </a:rPr>
              <a:t>Remember:</a:t>
            </a:r>
            <a:endParaRPr b="0" lang="en-US" sz="7800" spc="-1" strike="noStrike">
              <a:solidFill>
                <a:srgbClr val="205b5a"/>
              </a:solidFill>
              <a:latin typeface="Baskervill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3600"/>
              </a:spcBef>
              <a:buSzPct val="100000"/>
              <a:buBlip>
                <a:blip r:embed="rId1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c4c4c"/>
                </a:solidFill>
                <a:latin typeface="Hoefler Text"/>
              </a:rPr>
              <a:t>The story is historical fiction-meaning the author uses real people from history, but takes poetic license to change and add things. </a:t>
            </a: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800" spc="-1" strike="noStrike">
                <a:solidFill>
                  <a:srgbClr val="636154"/>
                </a:solidFill>
                <a:latin typeface="Baskerville"/>
              </a:rPr>
              <a:t>Response Journal</a:t>
            </a:r>
            <a:endParaRPr b="0" lang="en-US" sz="7800" spc="-1" strike="noStrike">
              <a:solidFill>
                <a:srgbClr val="205b5a"/>
              </a:solidFill>
              <a:latin typeface="Baskervil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3600"/>
              </a:spcBef>
              <a:buSzPct val="100000"/>
              <a:buBlip>
                <a:blip r:embed="rId1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c4c4c"/>
                </a:solidFill>
                <a:latin typeface="Hoefler Text"/>
              </a:rPr>
              <a:t>Test grade</a:t>
            </a: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  <a:p>
            <a:pPr marL="571680" indent="-571680">
              <a:spcBef>
                <a:spcPts val="3600"/>
              </a:spcBef>
              <a:buSzPct val="100000"/>
              <a:buBlip>
                <a:blip r:embed="rId2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c4c4c"/>
                </a:solidFill>
                <a:latin typeface="Hoefler Text"/>
              </a:rPr>
              <a:t>Collected at the end of the novel</a:t>
            </a: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  <a:p>
            <a:pPr marL="571680" indent="-571680">
              <a:spcBef>
                <a:spcPts val="3600"/>
              </a:spcBef>
              <a:buSzPct val="100000"/>
              <a:buBlip>
                <a:blip r:embed="rId3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c4c4c"/>
                </a:solidFill>
                <a:latin typeface="Hoefler Text"/>
              </a:rPr>
              <a:t>Date them</a:t>
            </a: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  <a:p>
            <a:pPr marL="571680" indent="-571680">
              <a:spcBef>
                <a:spcPts val="3600"/>
              </a:spcBef>
              <a:buSzPct val="100000"/>
              <a:buBlip>
                <a:blip r:embed="rId4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c4c4c"/>
                </a:solidFill>
                <a:latin typeface="Hoefler Text"/>
              </a:rPr>
              <a:t>Can contain pictures, quotes, questions, etc.</a:t>
            </a: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gie McCall</dc:creator>
  <dc:description/>
  <dc:language>en-US</dc:language>
  <cp:lastModifiedBy>Angie McCall</cp:lastModifiedBy>
  <dcterms:modified xsi:type="dcterms:W3CDTF">2013-09-30T19:42:31Z</dcterms:modified>
  <cp:revision>3</cp:revision>
  <dc:subject/>
  <dc:title>English</dc:title>
</cp:coreProperties>
</file>